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7CBE-40B6-4605-BD6F-CE08E34DBC1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C1D0-B546-4AC1-A225-7184DB017CA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7FE4-975E-46CB-9496-B9E25FD4598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7D18-8DC0-44D7-808A-7CA281A3494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0D95-783F-4DF0-B2B6-C62A8D2F0FC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3F49-7BF7-437D-8B6D-DB6700E3BB1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BEFE-E9B8-4B04-90C1-3643236B09F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986A-C2FF-4767-9B9E-F40AC6E5190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90AE-8508-47F5-B7D0-9504F6E0BA8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3FBC-FDB8-46DD-B35F-9E458A55AFD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28E4-5A12-4B8B-94F1-515E1B99B83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377E-D361-478C-9D78-E355851ADC9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BDFB-062E-4268-A566-470F94E484C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E69C-5EFD-473D-A381-70B1B78EF78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2B8D-6407-4157-9896-78CF05321FF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E285-E149-42C0-9261-9A9DC4F5AFE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716D-5EF4-4A2E-9730-3CA5B48522A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30E0-F33E-4F1F-97A8-CE7DECD0654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7FF5-3206-4CDF-A7EF-4FC795F03F3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313B-7CAE-4650-914D-53455B02E9C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AA82-B56B-40DF-9D2D-F4394ED6C72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060F-04F0-46A5-88FA-EE5ABDA72F2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DEA6-0E54-4BC5-987E-B5C5A1021CB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F0EB-3C8F-47CA-AC8E-14B466638B0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FE6C-B0BD-4120-8338-DF95C4EDC02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924B-327F-4FAC-BCB8-7E31BF63984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7E5C-4D59-4905-8D4C-C063795188C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B829-2A7D-41D3-8DE8-8D5E2E51209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A85D-F224-4003-B2C1-BAF91D22D98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DA90-7851-4935-AC2D-C6DB4E64F65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2D5E-73B3-42E1-9FBF-58ED4D27BEE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57FA-F4D5-45EE-A72E-BBCD64B6F4C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5C33-FA37-4374-89BF-19EF3C05641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7244-5618-4D32-862F-A3A13535AF1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BAE9-07F6-4620-BD72-636D405C7CF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2503-ED28-4765-BC16-358F4A490C6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69B3-C424-404D-A6B6-AA2E9388588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56AD-F92B-4ABB-B852-FE62A7BEE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1580-62D9-41FB-8BD1-1A5DF4A7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4DB2-EE3A-40D8-9142-871CE2411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4AF4-1D0C-4C2E-89B1-C86D0B996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B5BB-79F3-4B48-9007-9FF00A01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A6D2-4B4D-44B5-8F8F-6460AFCE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1728-92FF-4A5C-8CCD-9BC3AE3C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3C72-900B-48E5-B2BA-EAF49994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3BF6-C968-4EB3-A67B-8EEC8F96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3E2F-BAEC-412F-959D-079AD57B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4C31-0722-48D0-A7D8-FD72B52D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D9BB-7ECE-467B-A9C8-4E6819D5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CC35-9722-4004-8985-D3B3FFBC17AA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边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iā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가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변두리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拿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ná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가지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只是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hǐsh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단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同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ó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같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而已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éryǐ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뿐이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日语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Rìyǔ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일본어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普通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pǔtō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보통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苦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ǔ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쓰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客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èré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손님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完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á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동작의 완료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要是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àosh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만약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uò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앉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主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hǔré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주인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以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ǐwé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라고 여기다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准备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zhǔnbèi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준비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够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ò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충분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剩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è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남다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남기다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情况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 rot="10800000">
            <a:off x="333000" y="6690600"/>
            <a:ext cx="62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Arial"/>
              </a:rPr>
              <a:t>qíngkuàng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상황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一样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íyà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같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安排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ānpá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준비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窗户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chuānghu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창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擦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ā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닦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凉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liá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차갑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打开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ǎkā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열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记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j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기억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事情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ìqi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趁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hè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을 틈타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丰盛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"/>
          <p:cNvSpPr/>
          <p:nvPr/>
        </p:nvSpPr>
        <p:spPr>
          <a:xfrm rot="10800000">
            <a:off x="333000" y="6690600"/>
            <a:ext cx="62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Arial"/>
              </a:rPr>
              <a:t>fēngshèng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풍성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厨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húy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요리솜씨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帮忙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7"/>
          <p:cNvSpPr/>
          <p:nvPr/>
        </p:nvSpPr>
        <p:spPr>
          <a:xfrm rot="10800000">
            <a:off x="333000" y="6690600"/>
            <a:ext cx="62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Arial"/>
              </a:rPr>
              <a:t>bāngmáng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도와주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香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iā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향기롭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勺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sháoz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숟가락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除了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húl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외에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汤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ā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탕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국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以外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ǐwà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외에도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筷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kuàiz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젓가락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8T02:20:51Z</dcterms:created>
  <dc:creator>System</dc:creator>
  <dc:description/>
  <dc:language>en-US</dc:language>
  <cp:lastModifiedBy>System</cp:lastModifiedBy>
  <dcterms:modified xsi:type="dcterms:W3CDTF">2014-01-28T02:57:59Z</dcterms:modified>
  <cp:revision>4</cp:revision>
  <dc:subject/>
  <dc:title>슬라이드 1</dc:title>
</cp:coreProperties>
</file>